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20E-26F4-4F5C-B13C-FD54389B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FE2-5672-4BA0-B7A1-4D4349C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231-4EB2-474B-86DF-6C6832A3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47B-5A4A-451A-BD42-86E29E92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5DF-E8F7-4E44-BD9C-67EBA65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E1A-C738-40FA-925E-5567F9C3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622-1A83-4E5F-AD54-D9284C8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F7E-0673-4246-B915-0DEB67A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809-0B64-425E-9D5F-424BBE6D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61-856B-4B49-A577-4A2A080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C08-AE94-4F5B-B107-CFB3753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579-ED77-402B-91FD-550BDC9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5F9E-A14B-45DC-A579-4AA48AB8B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rc.carleton.edu/12585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Quality and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C, Carleto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= Utility in meeting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uses of data take place in wildly diverse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” data for one educator may be useless fo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ngle metric can capture “good for edu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s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extbook visualization, or 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oal is to help the learner understand the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rying to tell a convincing story; demonstrate that scientific understanding is underpinned by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lean and direct in a way that may be misleadingly atyp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Exploration by Stu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‘real’ process: frame problem, find/model data, ask questions, probe and analyze, revise questions, bring in different data, analyse.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ducation this is usually scaffolded: data selected/formatted/subsetted, questions framed, analysis outlined, tool use explicated.  Focus student energy on the bits that matter (which depends on goals) in time available matched to student abilities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Data Explo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to address real-world complex proble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udents’ ability to use scientific methods, including consideration of the values and ethics of working with da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ach students how to critically evaluate the integrity and robustness of data or evidence and of their consequent interpretations or 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raining in scientific, technical, quantitative, and communication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9080" y="62913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ata in the Classroom  http://serc.carleton.edu/3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Facilitates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find and use appropriate data of interest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knowledge for use i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on relevance of data to problems of societal, educational or scientific signific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points to examples of educational us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reliably available and archived for long term access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to, and organization of, the data is end-user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ve information (e.g. metadata) should be audience appropri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allows curriculum developers to ascertain the quality of data and determine the impact of data quality on the certainty of their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is provided about overall data collection, quality, reduction, and limitations. Data site includes sources of error and limitations of collection process as well as inaccuracies/ uncertainties from models/ particular choice of re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accuracy of individual data sets/points/ analyses is provi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s provided in ways that facilitate manipulation through a variety of tools. This may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he data in common formats that are accessible via desktop tools (spreadsheets, GISs, image analysis 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ools that are directly integrated into or downloadable from th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ing the data via protocols that make it accessible through 3rd party to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ools should be easily acquired, easy to use, and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ite supports, through these tools, data manipulation to answer question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ata contained within the site or combined with data from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ppropriate visu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student's own data to that in the s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320" y="613872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Working Group Recommendations: http://serc.carleton.edu/63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heets: examples of education-facilitating contextual informatio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rc.carleton.edu/125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21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ploration from the Using Data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76520"/>
            <a:ext cx="754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and accessing data relevant to the topic they are investig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the quality of thi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ppropriate tools and interfaces to manipulate and render data to answe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ing multiple and diverse data sets to solve a central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visualizations and representations that communicate interpretations and conclu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ng student data to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individual student data in the context of larger data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7:38:53Z</dcterms:created>
  <dc:creator>Sean Fox</dc:creator>
  <dc:description/>
  <dc:language>en-US</dc:language>
  <cp:lastModifiedBy>Sean Fox</cp:lastModifiedBy>
  <dcterms:modified xsi:type="dcterms:W3CDTF">2011-07-13T14:36:20Z</dcterms:modified>
  <cp:revision>24</cp:revision>
  <dc:subject/>
  <dc:title>Data Quality and Education</dc:title>
</cp:coreProperties>
</file>